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253-EE4D-42FE-886E-F9385D83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E6E-160B-4B8B-837A-A11E8BF2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15D-5EBD-4D91-A677-D0252579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5EF-554A-4AB3-9885-9D31B92E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5A28-F559-48DA-9C3D-3F8BDBB1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B557-25A9-47DD-82C9-DAB49059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E3DC-BFDD-4D85-9F6F-DFDD5787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A6E3-25F3-4A3F-BF54-5436368B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E4D0-8211-4741-B2E5-FF0BDE3B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8C6B-3DC7-4BD5-9B99-0EBCCE3E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5217-EDBE-44C2-8B09-6A2CA41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17B-DA62-41EC-9ED3-891B7635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F54E-3BFE-4FD7-AA97-AE7BA79A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1A0-BB48-4CBC-9E23-530B3E9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262-CF29-4BC9-8A57-ACBBF9A5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EA61-8C0B-4134-9738-ADE6C1B0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62BC-E504-4EE7-A72F-1D44FFE7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1A81A-0922-463F-A412-3C030A99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8E4A6-C7E6-40B6-8DDC-50AF6E40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641F5-B791-4DE5-AC6B-E164EAAB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8B470-0D06-4BDE-9CF8-FB58B0B2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BF264-0450-4A16-9C38-80C23903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BD8-9881-4577-BC1C-8AF3C1DA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F4642-B6CB-4F2A-8966-97060603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329E5-A21A-401F-BDD6-CB28A60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FC226-8AC8-4800-9715-93251864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D684D-ABB2-4D7E-9348-DE2B5E6C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A9ACA-DAB0-4A5C-8A51-CEFB2F47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36A3A-05E6-40B0-8611-FA196C78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02159-C5DE-4DF4-9416-2C6DDBE5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52707-19AA-4ECD-A043-D317A08D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56F6B-D602-4903-A14C-B4438CD2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760B7-C213-42DA-84DD-62B6BD7B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3B5-B27A-4CEF-9222-18783FF9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43AF8-A1C0-48CB-8A94-1A2F05EF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22EFD-1AB2-443D-8C3A-CAED742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E84B6-D344-4240-9599-B813569D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4CBB7-5181-4569-A686-4659CFF5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9050E-E57E-4E45-AFAF-F53FA34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B0123-3395-40C3-AEC6-CA26E438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FC7A7-2D65-4ADF-989B-7BF79E48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C7AB6-74E4-499E-8B71-5C3A6D8D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34B4C-247D-402B-9B4B-2958D2D1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CB8C6-94F7-4A9E-B39B-0217F86F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A54-3341-4187-94FC-4AB1991F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8B7FA-145C-46A9-9007-08CB737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265C6-CA64-42C0-A336-4C4A6C10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0AEFB-8ACE-4FEC-BFF4-499AB1FC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2A4FD-63A8-4C79-B310-E3AC21F5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0DBB3-FBD7-4A79-A4BC-EB431FE8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10F53-04F6-4BA9-B800-14DCE07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E04D9-F35B-470B-8040-4297FDAD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529CA-4F7E-482A-A827-27CDBBEC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B8C32-9CE5-4A88-8262-8C924C11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7DB4B-4E43-44A4-BB3C-8BB91317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954-4B14-42B0-8020-344228EE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DBF7D-0151-43F2-8953-2DA3ED1A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5C4E-887D-4A6A-BADA-E9E5EC01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EEEF3-7488-4651-A8B1-0274E5FF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D29A2-80CA-4F04-8E63-17F77925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B90A9-B010-46D7-A506-8F25411C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9E2EB-5CC9-41A4-BD43-4B71ACBF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22831-6749-4607-BCA1-794C069D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3E66-73B6-4877-91F1-F96818C9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7641-0CC1-45F6-BBAC-9AD35FB2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E803F-E500-4CBC-887E-5F960F1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30C-02DD-4C05-984C-59251B93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0F7E6-A3CE-4DE8-96F1-1BD550CA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1FC2-1942-489F-A3CB-D4CFE5D1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42275-127C-47A2-B6B2-95267E7B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2C0C2-1088-49BB-A1CB-04516157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4FFB1-AAE5-4616-94F6-F58CA1E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7CCD1-4A80-4BE0-B3D8-5A13E342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F0EE9-B2B2-4327-A47D-7F3464DD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E8445-1BB6-4F45-84A3-F75B9AFC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21248-DD3B-4E61-B2D4-03E4A3E9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C67A6-714C-4680-8989-580145CF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DD9-3CC1-4DF8-B75E-A2CCE485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ED45D-7B42-4C5C-BCEF-B2DAC90A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60E6C-814D-4EB3-B8D1-FE04E73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A9388-98CE-414F-9BB0-31B91F78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32CB5-C696-489E-A446-1C53B58B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9C9D4-8087-4447-AE50-CCB27B99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5D58C-9CF0-4947-AF2D-083116DB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A30B6-3C32-4599-B2C2-2ED2FB61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F2A42-D7EB-4E12-B0F8-1858B6A1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B04F8-6CF3-42FC-8858-BB3D3C0E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F9A2-5FDC-46EF-979C-B9F72DB4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BD1-8C66-417C-9BFE-2F14668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69377-E3A5-411A-8609-CFEC4056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6461B-FF50-4616-9D32-3734DBF4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D7915-3972-4E91-B95E-C958E11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56E9C-07E2-451A-9A9C-9E37ECCD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A0D30-C2FB-4BAE-8C35-2BED10EF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A285C-51F5-451E-BECC-B22A6721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D221F-A517-43BE-AC23-C92880A7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D32C-8FD4-48DD-AAC0-B6CF4884F7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C30C-465A-4482-A335-6BBBB69CBDCA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9384-2D15-470B-848A-1EB08C85708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016F-181C-44A1-BD4A-8FE381570A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02FE-B422-4B6A-A684-B16A502644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8D45-87D0-41AE-AA4C-0D6F6981F2C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FEFE-BB51-451B-BDB6-6466FA619BF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53A-8F7A-4023-B505-AC8C17AA18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porcle.com/games/aetomlinson08/unh-ed604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OTIVATION &amp; AFFEC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19320" y="106632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Tara McNulty – </a:t>
            </a: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Overview of Motivation &amp; Affect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Chelsea Donovan </a:t>
            </a: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– Anxiety in the Classroom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Vincenzo Gilberti </a:t>
            </a: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– Making the Transition to a Secondary School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laudia Viacava </a:t>
            </a: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Lynch- Diversity 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Ashley Tomlinson </a:t>
            </a: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– Group Activity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itional Anxiety ~ Cau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120" y="1371240"/>
            <a:ext cx="7921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arger school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evious friendship/relationships disrupted by change of school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re superficial relationships with new teachers and peer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ewer choices about topics of tasks students comple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hift from mastery goals to performance goal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ess structure to assignmen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re rigorous standard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re competitiv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igh stakes tes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504B-240F-48F2-ACA6-C90CEF5ED9B8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Vin 8th grade grad 2"/>
          <p:cNvPicPr/>
          <p:nvPr/>
        </p:nvPicPr>
        <p:blipFill>
          <a:blip r:embed="rId1"/>
          <a:srcRect l="6899" t="19890" r="0" b="0"/>
          <a:stretch/>
        </p:blipFill>
        <p:spPr>
          <a:xfrm>
            <a:off x="5029200" y="40384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Vin 8th grade grad 1"/>
          <p:cNvPicPr/>
          <p:nvPr/>
        </p:nvPicPr>
        <p:blipFill>
          <a:blip r:embed="rId2"/>
          <a:stretch/>
        </p:blipFill>
        <p:spPr>
          <a:xfrm>
            <a:off x="2590920" y="1447920"/>
            <a:ext cx="3581280" cy="2743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d for the Ladies….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7" name="Picture 4" descr="Vin 8th grade class"/>
          <p:cNvPicPr/>
          <p:nvPr/>
        </p:nvPicPr>
        <p:blipFill>
          <a:blip r:embed="rId3"/>
          <a:stretch/>
        </p:blipFill>
        <p:spPr>
          <a:xfrm>
            <a:off x="0" y="3983040"/>
            <a:ext cx="3429000" cy="28749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ACFD-B71C-43A6-B125-5062309C97AF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itional Anxiety ~ Effec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91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neral decline in positive emotions extreme mood swings (partly result of hormonal changes from puberty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creasing concern and anxiety about ones appearance and social standing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ecreased enjoyment in school (most prevalent in boys)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creasing prevalence of debilitating anxiety regarding test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eelings of uncertainty about life after graduation (HS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creased anxiety and potential depres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4FA5-1A87-496B-AA48-20C66A8D6B15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itional Anxiety ~ What teachers can do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3316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Be especially supportive to students who have just made the transition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how personal interest in students’ well-being and teach effective study skill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ake personal connection with each student expressing confidence that students can succeed with effort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ccasionally incorporate game like features into classroom activitie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ssign cooperative learning projects to facilitate student bonds and supportive friendship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ive frequent assessments; help students prepare for high stakes test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onitor student behavior for signs of long term depressio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Be on the lookout for suicidal tendencie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ffer support to facilitate succes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9300-0510-4D88-B97C-16353D19935A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versity in Motivation and Aff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48960" y="167652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ultural and Ethnic Differenc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 children have basic needs in common; how they satisfy those needs may var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ed for affiliation may vary, as may the amount of encouragement for academic achieveme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reotype threat may be prese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ender Differenc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irls are more concerned with doing wel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40960" indent="-21024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ry harder, earn higher grades, engage in less self-handicapping, have higher graduation rat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40960" indent="-21024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ore likely to have high need for affili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7A3D-8A3A-4459-9628-87765DC06CFB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versity in Motivation and Aff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ender and Affect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irls express emotions more openly, except ange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irls are more anxious about classroom performanc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ower-income students have more stress, may have less effective strategies and self-regulation skill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9891-81C7-4AAD-953E-930D742108A7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versity in Motivation and Aff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523880"/>
            <a:ext cx="796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ve greatest diversity in moti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y have difficulty meeting needs for relatedness because of fewer opportunities to socialize with pe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6885-3802-4CA9-8C6E-E1F9E204B683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tivation &amp; Affe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48960" y="1523520"/>
            <a:ext cx="766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6 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TARGET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Principles of Motivati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R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E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w Cen MT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5362560" cy="28958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8F0-7D23-4186-85E4-749259C99A86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6 TARGET Princi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040" y="1599840"/>
            <a:ext cx="766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ask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pics and assignments should be interesting, engaging, and emotionally charge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ningful learning &gt; Rote lear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vide emotional support, especially with difficult tas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utonom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o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lf-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adership ro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3124080" cy="23256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E60-08F8-4FCA-80EB-67C5E6575C30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6 TARGET Princi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8080" y="1523520"/>
            <a:ext cx="766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R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ecogniti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cknowledge personal and social suc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cognize improvement, not just maste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how students how their actions are directly responsible for suc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rouping Procedur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ow opportunities for students to interac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lan activities where all students feel that they can make an important contribu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13600" indent="-2034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x) School of Rock grou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cial skil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tmosphere of caring, respect, and suppor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3ECA-3DA8-42B9-9300-B628A3912A10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 &amp; Its Effec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218960"/>
            <a:ext cx="766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Affect is closely related to motivation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arners have feelings, emotions, and moods that they bring to a tas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udents are more motivated when they feel optimistic about their goals and the chances of meeting them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students are more excited after success, they are more willing to engage in the behavior agai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Picture 4" descr="https://encrypted-tbn3.gstatic.com/images?q=tbn:ANd9GcS_gYaXUEpH18L-bbsxuOUGZm_U5teTM9i232WC3ruUHm6I1CUaYw"/>
          <p:cNvPicPr/>
          <p:nvPr/>
        </p:nvPicPr>
        <p:blipFill>
          <a:blip r:embed="rId1"/>
          <a:stretch/>
        </p:blipFill>
        <p:spPr>
          <a:xfrm>
            <a:off x="3124080" y="48769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C50E-B9AB-4FB2-A658-6CF3E7B3527F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6 TARGET Princi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5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valuati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ecific guideli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lf-Evalu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6. </a:t>
            </a:r>
            <a:r>
              <a:rPr b="1" lang="en-US" sz="3000" spc="-1" strike="noStrike">
                <a:solidFill>
                  <a:srgbClr val="0000ff"/>
                </a:solidFill>
                <a:latin typeface="Tw Cen MT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ime Management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ive students enough time to master tas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t students have a say in the schedule and plan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riety and differenti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7" name="Picture 5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355840" cy="225756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9614-A508-4E31-8CE5-8120CE77EB8B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se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et in to groups of 2 or 3.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*Make sure at least one person has a computer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Log on to </a:t>
            </a: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sporcle.com/games/aetomlinson08/unh-ed60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Finish the quiz in the allotted time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0190-3B45-44BF-A7BB-D1FFCE7134CA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l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ow do you think you did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as there enough time?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ere you prepared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Did you feel anxious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Did working in a group help you or was it harder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ould you feel differently if the quiz was for a grade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F2B5-0272-47A1-823C-53C322DFCD22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 &amp; Its Effec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16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Affect:  Related to learning and cogniti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ggling with material may lead to disliking materia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pending on previous experience, some material evokes positive feelings, while other material evokes negative feeling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ot cogni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gnitive disson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ore emotional students feel about a piece of material, the more likely they are to remember i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A594-3DA8-427F-8554-F983400DC375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trinsic vs. Intrinsic Moti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Extrinsic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tivation is promoted by factors not within individu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cademic activities are a means to an en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Intrinsic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tivation promoted by an internal desire to do someth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cademic activity is the en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trinsic motivation tends to lead to greater performance and longer-lasting motivatio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5405400" y="5181480"/>
            <a:ext cx="3000240" cy="15242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20FE-A937-4A45-AF89-9E22437B8310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sic Human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34286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"/>
          </a:bodyPr>
          <a:p>
            <a:pPr marL="15840" indent="-15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18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18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15840" indent="-15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Maslow’s Hierarchy of Need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18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ory of motivation that proposed people must satisfy four deficiency needs before engaging in self-actualizing activities such as learning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1371600" y="1498680"/>
            <a:ext cx="6095880" cy="33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7463-3AAB-4D9C-B6A6-662217EE9CE5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x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Feelings of uneasiness and apprehension concerning a situation with an uncertain outcom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often accompanied by physiological symptom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Grande (Body)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Lucida Grande (Body)"/>
              </a:rPr>
              <a:t>Anxiety              vs.           Fe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838080" y="4952880"/>
          <a:ext cx="7365960" cy="1051200"/>
        </p:xfrm>
        <a:graphic>
          <a:graphicData uri="http://schemas.openxmlformats.org/drawingml/2006/table">
            <a:tbl>
              <a:tblPr/>
              <a:tblGrid>
                <a:gridCol w="3683160"/>
                <a:gridCol w="3682800"/>
              </a:tblGrid>
              <a:tr h="1051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 known cau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particular cause or rea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2398-5F44-49B2-915E-B1563A3D388F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6D8B-4E31-461A-9CD2-1A3D13D81C9B}" type="slidenum">
              <a:rPr b="0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x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ources of anxiety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reats - situation in which one has little chance of suc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allenges - situation in which one can succeed with reasonable effor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Grande (Body)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Lucida Grande (Body)"/>
              </a:rPr>
              <a:t>State             vs.          Tra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62120" y="4267080"/>
          <a:ext cx="7365960" cy="2336760"/>
        </p:xfrm>
        <a:graphic>
          <a:graphicData uri="http://schemas.openxmlformats.org/drawingml/2006/table">
            <a:tbl>
              <a:tblPr/>
              <a:tblGrid>
                <a:gridCol w="3682800"/>
                <a:gridCol w="3683160"/>
              </a:tblGrid>
              <a:tr h="2746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emporary feelin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y provide motiv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onic condi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terferes with performanc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dd8047"/>
                        </a:buClr>
                        <a:buSzPct val="60000"/>
                        <a:buFont typeface="Wingdings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xiety even in non-threatening situat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348B-DB0C-4493-925C-9E7A5CE07743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44AC-8896-47F3-81DE-77EBAA487997}" type="slidenum">
              <a:rPr b="0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x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0080" y="1523520"/>
            <a:ext cx="8683560" cy="4800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Facilitating anxiety - a small amount of anxiety that improves performanc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irable for moti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oal is to keep students at this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Debilitating anxiety - a great amount of anxiety that interferes with performanc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ften triggered by frustrating subject matter and high demand tasks, such as problem solving and creativ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lp students with differentiated instr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09440" y="1241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C8CF-4FFB-49C8-9AFA-6DF99AB2A21C}" type="slidenum">
              <a:rPr b="0" lang="en-US" sz="14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iddle School Yea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Transitional Anxie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53:48Z</dcterms:created>
  <dc:creator>Erin M Fisher</dc:creator>
  <dc:description/>
  <dc:language>en-US</dc:language>
  <cp:lastModifiedBy>Ashley Tomlinson</cp:lastModifiedBy>
  <dcterms:modified xsi:type="dcterms:W3CDTF">2013-03-03T05:38:45Z</dcterms:modified>
  <cp:revision>69</cp:revision>
  <dc:subject/>
  <dc:title>Motivation &amp; Affect</dc:title>
</cp:coreProperties>
</file>